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1713-9516-4EB7-A71E-995DAC6418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73F9-9EBD-4818-9DDB-77930C9884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EDE1-E475-4628-9949-4D8D6F3A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32F-6657-4721-995A-18477A80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A9C9-588D-4BA1-B230-5EB02837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282B-5C2B-4644-AD15-68EA8E02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3C30-C177-428E-9035-85CCFF7F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DA9D-4052-4ECB-A624-3D668C30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21C3-9766-462D-8CA4-63E8DCC2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6550-37B1-41F5-BA58-D59832F7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8BB2-627B-41BC-B138-E6BCC364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BF68-1896-4236-AF8A-E0259B89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2BEF-AF16-40A2-8D9C-F52C6473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ECC7-EB7C-4B76-8B8B-29DEAA2C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5928-DA80-4BF6-BF52-B887405A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F1B5-8908-4801-B181-02919889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952C-D186-4845-89CE-483E8C59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6074-9CFA-4E5B-86FA-FF23C965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7D25-FAD6-49A7-8363-FBE260B9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EE26-3ACC-4F51-9CE7-088FA98C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BD49-3392-4C08-9540-0FB913E5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C927-D77D-475B-B795-1E42A4B6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277C-0C66-4AE3-985D-5829482B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4CBD-F1F1-4D85-ACDD-3DEBF11E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ED3F-9876-4141-90B2-47574A6B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2C3-CF77-421A-AAA6-0F179F14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int1234ыярфенш"/>
          <p:cNvPicPr/>
          <p:nvPr/>
        </p:nvPicPr>
        <p:blipFill>
          <a:blip r:embed="rId2"/>
          <a:stretch/>
        </p:blipFill>
        <p:spPr>
          <a:xfrm>
            <a:off x="0" y="0"/>
            <a:ext cx="2335320" cy="179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7A3C-4C0B-4066-92BB-6A108052F5B3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4502-F98A-490B-BE81-76CEF99388E6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Прямоугольник 1" descr=""/>
          <p:cNvPicPr/>
          <p:nvPr/>
        </p:nvPicPr>
        <p:blipFill>
          <a:blip r:embed="rId1"/>
          <a:stretch/>
        </p:blipFill>
        <p:spPr>
          <a:xfrm>
            <a:off x="1852560" y="1023840"/>
            <a:ext cx="5761080" cy="57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45vqdi-pb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defaul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image007.jpg"/>
          <p:cNvPicPr/>
          <p:nvPr/>
        </p:nvPicPr>
        <p:blipFill>
          <a:blip r:embed="rId1"/>
          <a:stretch/>
        </p:blipFill>
        <p:spPr>
          <a:xfrm>
            <a:off x="0" y="0"/>
            <a:ext cx="7724880" cy="39290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2" descr="munichtom.jpg"/>
          <p:cNvPicPr/>
          <p:nvPr/>
        </p:nvPicPr>
        <p:blipFill>
          <a:blip r:embed="rId2"/>
          <a:stretch/>
        </p:blipFill>
        <p:spPr>
          <a:xfrm>
            <a:off x="4495680" y="3952800"/>
            <a:ext cx="4648320" cy="29052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57120" y="4714920"/>
            <a:ext cx="3857760" cy="11912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одписание «Мюнхенского сговора» Чемберленом, Деладье, Муссолини и Гитле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1931-1940121.jpg"/>
          <p:cNvPicPr/>
          <p:nvPr/>
        </p:nvPicPr>
        <p:blipFill>
          <a:blip r:embed="rId1"/>
          <a:stretch/>
        </p:blipFill>
        <p:spPr>
          <a:xfrm>
            <a:off x="2139840" y="0"/>
            <a:ext cx="486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хема 1" descr=""/>
          <p:cNvPicPr/>
          <p:nvPr/>
        </p:nvPicPr>
        <p:blipFill>
          <a:blip r:embed="rId1"/>
          <a:stretch/>
        </p:blipFill>
        <p:spPr>
          <a:xfrm>
            <a:off x="-12600" y="-12600"/>
            <a:ext cx="91692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2"/>
          <p:cNvSpPr/>
          <p:nvPr/>
        </p:nvSpPr>
        <p:spPr>
          <a:xfrm>
            <a:off x="774720" y="836640"/>
            <a:ext cx="76327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Продолжите историческое высказы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целью внешней политики СССР в 30-е гг. являлось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а коллективной безопасности в Европе не была создана, потому что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юнхенское соглашение было направлено н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августе 1939 г. состоялось подписание советско-германского договора ненападении, так как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30-е гг. в Европе и мире назревала новая мировая война из-з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755640" y="1628640"/>
            <a:ext cx="7272360" cy="366012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Gothic"/>
              </a:rPr>
              <a:t>Д.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Century Gothic"/>
              </a:rPr>
              <a:t>ПАРАГРАФ 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Century Gothic"/>
              </a:rPr>
              <a:t>ВОПРОСЫ 4,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Century Gothic"/>
              </a:rPr>
              <a:t>Д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      </a:t>
            </a:r>
            <a:r>
              <a:rPr b="1" i="1" lang="ru-RU" sz="1800" spc="-1" strike="noStrike">
                <a:solidFill>
                  <a:srgbClr val="ffffff"/>
                </a:solidFill>
                <a:latin typeface="Century Gothic"/>
              </a:rPr>
              <a:t>ноябрь 1937 г. — присоединение Италии к антикоминтерновскому пакту («треугольник Рим — Токио — Берлин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      </a:t>
            </a:r>
            <a:r>
              <a:rPr b="1" i="1" lang="ru-RU" sz="1800" spc="-1" strike="noStrike">
                <a:solidFill>
                  <a:srgbClr val="ffffff"/>
                </a:solidFill>
                <a:latin typeface="Century Gothic"/>
              </a:rPr>
              <a:t>сентябрь 1938 г. — Мюнхенское соглашение Германии, Италии, Франции и Англии по вопросу Чехословак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      </a:t>
            </a:r>
            <a:r>
              <a:rPr b="1" i="1" lang="ru-RU" sz="1800" spc="-1" strike="noStrike">
                <a:solidFill>
                  <a:srgbClr val="ffffff"/>
                </a:solidFill>
                <a:latin typeface="Century Gothic"/>
              </a:rPr>
              <a:t>март 1939 г. — оккупация всей Чехословакии Герман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      </a:t>
            </a:r>
            <a:r>
              <a:rPr b="1" i="1" lang="ru-RU" sz="1800" spc="-1" strike="noStrike">
                <a:solidFill>
                  <a:srgbClr val="ffffff"/>
                </a:solidFill>
                <a:latin typeface="Century Gothic"/>
              </a:rPr>
              <a:t>23 августа 1939 г. — договор о ненападении СССР и Германии, секретный протокол о разделе сфер интересов в Евро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1204920" y="1628640"/>
            <a:ext cx="6769080" cy="3993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      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entury Gothic"/>
              </a:rPr>
              <a:t>Подумайте над проблемой</a:t>
            </a: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, проанализировав развитие международных отношений в 30-е гг.,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entury Gothic"/>
              </a:rPr>
              <a:t>было ли начало Второй мировой войны неизбежным </a:t>
            </a: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или на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entury Gothic"/>
              </a:rPr>
              <a:t>каком-то этапе ее можно было предотвра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85880" y="4214520"/>
            <a:ext cx="7772400" cy="14698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99ff"/>
                </a:solidFill>
                <a:latin typeface="Century Gothic"/>
              </a:rPr>
              <a:t>Международные отношения в 30-е годы</a:t>
            </a:r>
            <a:endParaRPr b="1" lang="en-US" sz="5400" spc="-1" strike="noStrike">
              <a:solidFill>
                <a:srgbClr val="3399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Century Gothic"/>
              </a:rPr>
              <a:t>План: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1. Крах Версальско-вашингтонской системы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2. Несостоятельность Лиги наций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3. Блок «Ось Берлин-Рим-Токио»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3. «Мюнхенский сговор»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4. Провал плана коллективной безопасности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Century Gothic"/>
              </a:rPr>
              <a:t>Вопрос урока.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Попробуем выяснить можно ли было избежать Второй Мировой войны?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Годы, события, даты, имена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хема 1" descr=""/>
          <p:cNvPicPr/>
          <p:nvPr/>
        </p:nvPicPr>
        <p:blipFill>
          <a:blip r:embed="rId1"/>
          <a:stretch/>
        </p:blipFill>
        <p:spPr>
          <a:xfrm>
            <a:off x="-12600" y="-12600"/>
            <a:ext cx="91692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europe_ww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Третий-Рейх2.jpg"/>
          <p:cNvPicPr/>
          <p:nvPr/>
        </p:nvPicPr>
        <p:blipFill>
          <a:blip r:embed="rId2"/>
          <a:stretch/>
        </p:blipFill>
        <p:spPr>
          <a:xfrm>
            <a:off x="3714840" y="321480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Третий-Рейх2.jpg"/>
          <p:cNvPicPr/>
          <p:nvPr/>
        </p:nvPicPr>
        <p:blipFill>
          <a:blip r:embed="rId3"/>
          <a:stretch/>
        </p:blipFill>
        <p:spPr>
          <a:xfrm>
            <a:off x="3929040" y="414324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Третий-Рейх2.jpg"/>
          <p:cNvPicPr/>
          <p:nvPr/>
        </p:nvPicPr>
        <p:blipFill>
          <a:blip r:embed="rId4"/>
          <a:stretch/>
        </p:blipFill>
        <p:spPr>
          <a:xfrm>
            <a:off x="1214280" y="49291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Третий-Рейх2.jpg"/>
          <p:cNvPicPr/>
          <p:nvPr/>
        </p:nvPicPr>
        <p:blipFill>
          <a:blip r:embed="rId5"/>
          <a:stretch/>
        </p:blipFill>
        <p:spPr>
          <a:xfrm>
            <a:off x="6215040" y="37861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Третий-Рейх2.jpg"/>
          <p:cNvPicPr/>
          <p:nvPr/>
        </p:nvPicPr>
        <p:blipFill>
          <a:blip r:embed="rId6"/>
          <a:stretch/>
        </p:blipFill>
        <p:spPr>
          <a:xfrm>
            <a:off x="5072040" y="3786120"/>
            <a:ext cx="276120" cy="2761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7" descr="Третий-Рейх2.jpg"/>
          <p:cNvPicPr/>
          <p:nvPr/>
        </p:nvPicPr>
        <p:blipFill>
          <a:blip r:embed="rId7"/>
          <a:stretch/>
        </p:blipFill>
        <p:spPr>
          <a:xfrm>
            <a:off x="6500880" y="4572000"/>
            <a:ext cx="214200" cy="2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566422995.jpg"/>
          <p:cNvPicPr/>
          <p:nvPr/>
        </p:nvPicPr>
        <p:blipFill>
          <a:blip r:embed="rId1"/>
          <a:stretch/>
        </p:blipFill>
        <p:spPr>
          <a:xfrm>
            <a:off x="2428920" y="0"/>
            <a:ext cx="471492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1087.jpg"/>
          <p:cNvPicPr/>
          <p:nvPr/>
        </p:nvPicPr>
        <p:blipFill>
          <a:blip r:embed="rId1"/>
          <a:stretch/>
        </p:blipFill>
        <p:spPr>
          <a:xfrm>
            <a:off x="2970360" y="0"/>
            <a:ext cx="617364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357120" y="4143240"/>
            <a:ext cx="2286000" cy="192348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«…Германия хочет мира…». Выступление Гитлера перед Рейхстагом в 1937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Схема 2" descr=""/>
          <p:cNvPicPr/>
          <p:nvPr/>
        </p:nvPicPr>
        <p:blipFill>
          <a:blip r:embed="rId1"/>
          <a:stretch/>
        </p:blipFill>
        <p:spPr>
          <a:xfrm>
            <a:off x="-19080" y="-12600"/>
            <a:ext cx="922356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5T18:14:33Z</dcterms:created>
  <dc:creator>GENA</dc:creator>
  <dc:description/>
  <dc:language>en-US</dc:language>
  <cp:lastModifiedBy>Школа</cp:lastModifiedBy>
  <dcterms:modified xsi:type="dcterms:W3CDTF">2011-11-24T02:38:18Z</dcterms:modified>
  <cp:revision>12</cp:revision>
  <dc:subject/>
  <dc:title>Международные отношения в 30-е годы</dc:title>
</cp:coreProperties>
</file>